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002-DC6D-4A37-8BF7-416C899E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71D-6944-4E06-9538-9D0E913B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194-BD7B-4699-9169-6B262C60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F7F-3524-4D92-96C9-7907D7C7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1FA1-BC2D-4F6B-ACD8-A3C23568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9496-81C2-4BBA-BB0C-240DB78E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E421-C230-4452-8A96-60456542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B525-BCDF-4AC4-AE12-2D2738AB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00D3-B7E6-4E82-A77C-3B106F03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848C-5673-4676-BAA2-2EE97262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0254-9964-471E-9EF1-6A17D3B3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430-4149-49B1-B789-786F2B26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3C7D-BED5-4F28-8D7C-BDF131D8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1C0F-4A12-4B3F-8E6C-D030D1CA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D7DD-CEC2-4076-9A23-51CD1CEC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82DB-F72E-49CA-B65A-BB1A0EE2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B165-E626-466F-8AED-5BE5B18C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36E-D84C-438E-8341-CE642907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F709-10C9-4000-B3E3-68FA8F85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E4B-D057-47B4-B196-FF0B2215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CC4-C6DF-4BD9-9E9E-C73C876F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265-D110-4BE7-A4E7-54F41448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9BED-DC74-4DBC-BF09-F37C2872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A3D-1DA1-44CF-8B4B-DCC24BAB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FF64-7196-4012-8E30-B3EDD23E993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3C34-FEAD-4039-92F1-0A1EE95AA8E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Religion and the Public School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you’ve been, where you’re go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Amendment rights: evol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room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onal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icul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s you make affect out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ture: Court Cas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hey affect the future of teac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ture: Politic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ill politics affect the futu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ture: Current Ev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happens in the world affects how we study r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can religious literacy help students better understand world ev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Lobbyist and Special Interest group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they affect what is in textbook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they affect what is taug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chool Policies &amp; Educational Philosophy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school policies affect teaching and dealing with religion in class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educational philosophies address in regards to relig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your educational philosophy about religion and issues with it in the classro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ill you stay informed on issu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ill you address issues in the classro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22:13:12Z</dcterms:created>
  <dc:creator>Vanessa Jakse</dc:creator>
  <dc:description/>
  <dc:language>en-US</dc:language>
  <cp:lastModifiedBy>Vanessa Jakse</cp:lastModifiedBy>
  <dcterms:modified xsi:type="dcterms:W3CDTF">2009-07-18T00:09:56Z</dcterms:modified>
  <cp:revision>2</cp:revision>
  <dc:subject/>
  <dc:title>Religion and the Public Schools</dc:title>
</cp:coreProperties>
</file>